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47EC-5227-4D50-AF6F-B841523A2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04F5-6876-4EDA-A514-C0347146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305D-5DE4-44AF-A163-EC38F927D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2F89-95E0-4F12-8B98-AA3642026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6F246-2BE6-405B-9787-ECC775B1D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CF222-3854-4CF1-BCF0-71B78745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91E57-E4DD-4059-8062-9D2748B0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FE2FD-D49F-4D63-BAE9-EA6B6C6B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9CA9F-7ECB-4498-8548-7BC99497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BF0B4-D40F-4646-AAFC-016137FB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D8670-2DFE-47D1-AB3D-BB5FE75E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C923-51C9-461E-B0A9-1FF95BD1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3AF25-7F57-4E4C-92E1-86B5DD3F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E83B6-D2BA-4758-A64F-5B633F23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6FD45-C072-4999-B1A7-A528E90C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58BCA-E171-417B-86F3-CFDDDC6C0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39D16-212A-4157-B9D8-5F52DF0DE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2404-EB3C-4185-A40D-3D126C87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4556-74E0-4345-97ED-DA2FCB67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C822-6F0C-43C2-AD31-32F0A4FE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4F10-CD7C-437E-9807-6C29A597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574B-28F5-491F-A655-13103584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CE6D-6E85-43CB-91BA-B4AB8FB6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EC86-BC7B-42F7-9C89-F66007E5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DB5C-592C-44C9-B9C9-8088197D5D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8E18-6636-472C-9F8E-5E80A3753D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Cooper Black"/>
              </a:rPr>
              <a:t>Biolog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Cooper Black"/>
              <a:ea typeface="Cooper Black"/>
            </a:endParaRPr>
          </a:p>
        </p:txBody>
      </p:sp>
      <p:pic>
        <p:nvPicPr>
          <p:cNvPr id="83" name="Picture 16" descr="scistartlogo2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84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2892ac"/>
                </a:solidFill>
                <a:latin typeface="Cooper Black"/>
              </a:rPr>
              <a:t>Cell Membrane 2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2892ac"/>
              </a:solidFill>
              <a:latin typeface="Cooper Black"/>
              <a:ea typeface="Cooper Black"/>
            </a:endParaRPr>
          </a:p>
        </p:txBody>
      </p:sp>
      <p:pic>
        <p:nvPicPr>
          <p:cNvPr id="85" name="Picture 8" descr="C:\Users\Liz\AppData\Local\Microsoft\Windows\Temporary Internet Files\Content.IE5\CPHVRLKO\MCj02296450000[1].wmf"/>
          <p:cNvPicPr/>
          <p:nvPr/>
        </p:nvPicPr>
        <p:blipFill>
          <a:blip r:embed="rId3"/>
          <a:stretch/>
        </p:blipFill>
        <p:spPr>
          <a:xfrm>
            <a:off x="685800" y="3276720"/>
            <a:ext cx="25909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happens when oil and water are put together in a bowl and are stirred?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ain what occurs and tell wh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5:32:16Z</dcterms:created>
  <dc:creator>PritchaJ</dc:creator>
  <dc:description/>
  <dc:language>en-US</dc:language>
  <cp:lastModifiedBy>PritchaJ</cp:lastModifiedBy>
  <dcterms:modified xsi:type="dcterms:W3CDTF">2011-06-01T15:32:50Z</dcterms:modified>
  <cp:revision>1</cp:revision>
  <dc:subject/>
  <dc:title>Slide 1</dc:title>
</cp:coreProperties>
</file>